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9A3-726E-40A9-BB5F-BE9B6812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F3A-B47F-4DCC-A580-6383EE2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FCF-45E2-4DDF-8E6C-EE7C2B73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274-C0DB-41B6-9076-C08DE2AA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28D-75AA-4F31-9300-3C89FD5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BC1-E895-4060-AF5E-CFDB7C99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0D7-3C19-4648-8C0A-E57E3181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A6F-1C43-4807-B4C9-A9EAC830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070-B2C3-4828-A72A-22E1CD3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194-A365-4320-9922-3215480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B9F-48DC-481A-8840-4B78568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F34-D784-4D36-94BB-4926B46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419-32DA-4FE7-AA72-3228370B1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caralarmoff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caralarmoff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31840" y="237348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8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408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4080" y="23367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3480" y="1666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96200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41148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55800" y="47847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584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2392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4148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156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816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1240" y="16495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264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57040" y="1157400"/>
                <a:ext cx="2908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273480" y="2367000"/>
            <a:ext cx="6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1480" y="4776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0880" y="16304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1760" y="5283360"/>
            <a:ext cx="9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92280" y="61023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6760" y="52974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840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5760" y="10159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6.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4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2960" y="269892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76560" y="44766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8520" y="3303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0920" y="39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951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0760" y="4094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76560" y="202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7440" y="52959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0240" y="20113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55760" y="3243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1920" y="4491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1200" y="1128600"/>
                <a:ext cx="4216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5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413160" y="20192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4080" y="5187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240" y="10303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V="1" rot="16200000">
            <a:off x="137988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180216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0" name=""/>
          <p:cNvCxnSpPr/>
          <p:nvPr/>
        </p:nvCxnSpPr>
        <p:spPr>
          <a:xfrm flipV="1" rot="16200000">
            <a:off x="294840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337068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4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1760" y="26989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7680" y="44496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2640" y="3276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3919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3924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4880" y="4067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00280" y="2035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11560" y="526896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3960" y="20224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9880" y="3216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86040" y="4464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8000" y="1143000"/>
                <a:ext cx="295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936880" y="20304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8200" y="5160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2640" y="1003320"/>
            <a:ext cx="32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2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8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2960" y="269892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70200" y="4476600"/>
            <a:ext cx="13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8520" y="3303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3680" y="39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51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0760" y="4094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76560" y="202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7440" y="52959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1760" y="20113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5760" y="3243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1920" y="4491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6920" y="1171440"/>
                <a:ext cx="4216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413160" y="20192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187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240" y="10303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/>
          <p:nvPr/>
        </p:nvCxnSpPr>
        <p:spPr>
          <a:xfrm flipV="1" rot="16200000">
            <a:off x="137988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3" name=""/>
          <p:cNvCxnSpPr/>
          <p:nvPr/>
        </p:nvCxnSpPr>
        <p:spPr>
          <a:xfrm flipV="1" rot="16200000">
            <a:off x="180216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 rot="16200000">
            <a:off x="294840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 rot="16200000">
            <a:off x="337068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 the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78360" y="110160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1187280"/>
                <a:ext cx="3149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r>
                      <m:t xml:space="preserve">6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0" name=""/>
          <p:cNvCxnSpPr/>
          <p:nvPr/>
        </p:nvCxnSpPr>
        <p:spPr>
          <a:xfrm flipV="1" rot="16200000">
            <a:off x="1987920" y="1544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6200000">
            <a:off x="1589400" y="1540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035080" y="109692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1680" y="228600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56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8120" y="2398680"/>
                <a:ext cx="4021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5" name=""/>
          <p:cNvCxnSpPr/>
          <p:nvPr/>
        </p:nvCxnSpPr>
        <p:spPr>
          <a:xfrm flipV="1" rot="16200000">
            <a:off x="2111760" y="27129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V="1" rot="16200000">
            <a:off x="1713240" y="2708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 rot="16200000">
            <a:off x="1310040" y="27162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963960" y="356868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1.4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4200" y="3651120"/>
                <a:ext cx="3246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0" name=""/>
          <p:cNvCxnSpPr/>
          <p:nvPr/>
        </p:nvCxnSpPr>
        <p:spPr>
          <a:xfrm flipV="1" rot="16200000">
            <a:off x="2075040" y="401004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734000" y="468936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2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44480" y="4772160"/>
                <a:ext cx="4021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3" name=""/>
          <p:cNvCxnSpPr/>
          <p:nvPr/>
        </p:nvCxnSpPr>
        <p:spPr>
          <a:xfrm flipV="1" rot="16200000">
            <a:off x="2134080" y="511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 rot="16200000">
            <a:off x="1735560" y="5111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 flipV="1" rot="16200000">
            <a:off x="1332360" y="5119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146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3, 5 – 6 #1-1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5, 5 – 7 #1-2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10-19T19:06:58Z</dcterms:modified>
  <cp:revision>59</cp:revision>
  <dc:subject/>
  <dc:title>Slide 1</dc:title>
</cp:coreProperties>
</file>